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C3D4-FD3B-449C-AC2C-99CA74D2E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31F6-782E-4869-9192-04DF59C0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2085-1D2B-46B2-B8E3-EBC596C9A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9D74-7D38-46A5-A856-C86BAC778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2294-7AFF-4DCA-A22E-D7064B52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CD04-E172-4610-9E5F-981C5FA7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AE0B-4892-4C25-8543-F33EB3D4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D84A-C42A-440C-B881-CAB5F71D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DC9D-6DF4-4765-8534-4658FD9D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E402-74D9-4479-B53E-F51EFEDF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3DD6-AC18-4A2E-A729-BD36F27B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2D88-EF4D-40A4-A568-6AA9A574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29E9-E551-4567-B29A-4392391BB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50states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nchantedlearning.com/usa/states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fermi.jhuapl.edu/states/maps1/tn.gif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postcardsfrom.com/t1/arcin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81680" y="5029200"/>
            <a:ext cx="2210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thew Alejand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-17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 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28800" y="1676520"/>
            <a:ext cx="39625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6b8dc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Bauhaus 93"/>
              </a:rPr>
              <a:t>TENNESSE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6b8dc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Bauhaus 93"/>
              <a:ea typeface="Bauhaus 93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5867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7680" y="6132600"/>
            <a:ext cx="4359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880" y="6284880"/>
            <a:ext cx="607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cky top song  I got this from the Fifty states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ennes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50states.com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-25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-5342400"/>
            <a:ext cx="759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gradFill rotWithShape="0">
            <a:gsLst>
              <a:gs pos="0">
                <a:srgbClr val="00dfda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nes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shv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17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e and 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cking b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y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ived from an anglicized spelling of a Cherokee ri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b8dc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19680" cy="209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213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133720"/>
            <a:ext cx="7696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2133720"/>
            <a:ext cx="4587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map about Tenness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p describes  the capital ,cities ,state, mountains , state boundary , water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pa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00" y="5715000"/>
            <a:ext cx="72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got this picture from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nchantedLearning.com/usa/states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-25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67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00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6440" y="3276720"/>
            <a:ext cx="9007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1240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ermi.jhuapl.edu/states/maps1/tn.gif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map shows the degrees and Longitude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-25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All images Copyright © 1997 - 2000 WriteLine. All Rights Reserved. Nashville Capitol"/>
          <p:cNvPicPr/>
          <p:nvPr/>
        </p:nvPicPr>
        <p:blipFill>
          <a:blip r:embed="rId1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480060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 picture of Nashville the capital of Tennessee I got this picture 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t1/arcin.htm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     10-25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3:12:17Z</dcterms:created>
  <dc:creator>install</dc:creator>
  <dc:description/>
  <dc:language>en-US</dc:language>
  <cp:lastModifiedBy>install</cp:lastModifiedBy>
  <dcterms:modified xsi:type="dcterms:W3CDTF">2011-10-26T13:54:56Z</dcterms:modified>
  <cp:revision>14</cp:revision>
  <dc:subject/>
  <dc:title>Slide 1</dc:title>
</cp:coreProperties>
</file>